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06DA-624A-447B-8AF5-884B2866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83F-DCBB-48CC-A5E6-56FFAAC0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E8A-D5B1-4DD0-AE13-D266301D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304D-C1EA-4ED7-959D-FC3D5F49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477-B8DE-40D3-B16B-EA89D3FE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5E3-2F50-4B5E-8073-CA20A812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FA59-753E-4C99-9B87-395A3A7F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165C-2F04-45EF-BB26-1C3C4229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A4A-F46E-4BA9-8D03-F510610A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620D-5BBA-4084-9EE6-CDD72234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4187-830D-4B3F-9810-FF604B80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617-7DA4-4BED-9F22-54260D24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4859-76DC-461F-B7E1-08CF0F31F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Desig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osition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s changing a product’s image in relation to its competitor’s im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www.prlog.org/10748511-new-balance-shoesdiscount-shoes-best-shoes-deals.jpg"/>
          <p:cNvPicPr/>
          <p:nvPr/>
        </p:nvPicPr>
        <p:blipFill>
          <a:blip r:embed="rId1"/>
          <a:stretch/>
        </p:blipFill>
        <p:spPr>
          <a:xfrm>
            <a:off x="2514600" y="3276720"/>
            <a:ext cx="36860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I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specific model or size of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572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457200" y="2514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of closely relate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457200" y="304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457200" y="40384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he products a company m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apong.info/wp-content/uploads/2012/08/nike-shoes.jpg"/>
          <p:cNvPicPr/>
          <p:nvPr/>
        </p:nvPicPr>
        <p:blipFill>
          <a:blip r:embed="rId1"/>
          <a:stretch/>
        </p:blipFill>
        <p:spPr>
          <a:xfrm>
            <a:off x="7010280" y="533520"/>
            <a:ext cx="1676520" cy="1109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counterkicks.com/wp-content/uploads/2012/07/nike-ctr360-trequartista-cleat-nike-id-81-640x404.jpg"/>
          <p:cNvPicPr/>
          <p:nvPr/>
        </p:nvPicPr>
        <p:blipFill>
          <a:blip r:embed="rId2"/>
          <a:stretch/>
        </p:blipFill>
        <p:spPr>
          <a:xfrm>
            <a:off x="5943600" y="2133720"/>
            <a:ext cx="3048120" cy="19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ttp://www.sneakerfiles.com/wp-content/uploads/2007/07/nike-kobe-3-clothing-line-4.jpg"/>
          <p:cNvPicPr/>
          <p:nvPr/>
        </p:nvPicPr>
        <p:blipFill>
          <a:blip r:embed="rId3"/>
          <a:stretch/>
        </p:blipFill>
        <p:spPr>
          <a:xfrm>
            <a:off x="380880" y="4495680"/>
            <a:ext cx="2743200" cy="216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www.highsnobiety.com/news/wp-content/uploads/2009/08/nike-sb-august-10-540x367.jpg"/>
          <p:cNvPicPr/>
          <p:nvPr/>
        </p:nvPicPr>
        <p:blipFill>
          <a:blip r:embed="rId4"/>
          <a:stretch/>
        </p:blipFill>
        <p:spPr>
          <a:xfrm>
            <a:off x="3505320" y="4800600"/>
            <a:ext cx="2514600" cy="170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http://www.baseballplusstore.com/product_images/p/474/bt0601__22697_zoom.jpg"/>
          <p:cNvPicPr/>
          <p:nvPr/>
        </p:nvPicPr>
        <p:blipFill>
          <a:blip r:embed="rId5"/>
          <a:stretch/>
        </p:blipFill>
        <p:spPr>
          <a:xfrm>
            <a:off x="5334120" y="4648320"/>
            <a:ext cx="36194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umer G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chased and used by the ultimate consumer for personal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siness G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4720" y="2174760"/>
            <a:ext cx="40417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chased by the organization for use in their oper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brentwood.thefuntimesguide.com/images/blogs/shoes-and-socks-fleet-feet.jpg"/>
          <p:cNvPicPr/>
          <p:nvPr/>
        </p:nvPicPr>
        <p:blipFill>
          <a:blip r:embed="rId1"/>
          <a:stretch/>
        </p:blipFill>
        <p:spPr>
          <a:xfrm>
            <a:off x="2590920" y="3657600"/>
            <a:ext cx="4114800" cy="2744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int of Differe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unique characteristic or benefit that sets the product apart from a competitor’s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notflashyjustbright.com/wp-content/uploads/2011/11/2011-World-Series-Sound-Check-Music-Blog.jpeg"/>
          <p:cNvPicPr/>
          <p:nvPr/>
        </p:nvPicPr>
        <p:blipFill>
          <a:blip r:embed="rId1"/>
          <a:stretch/>
        </p:blipFill>
        <p:spPr>
          <a:xfrm>
            <a:off x="2895480" y="2819520"/>
            <a:ext cx="34005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in New Product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 Gen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eening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siness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iz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O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rtun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http://upload.wikimedia.org/wikipedia/commons/thumb/0/0b/SWOT_en.svg/360px-SWOT_en.svg.png"/>
          <p:cNvPicPr/>
          <p:nvPr/>
        </p:nvPicPr>
        <p:blipFill>
          <a:blip r:embed="rId1"/>
          <a:srcRect l="0" t="15323" r="0" b="0"/>
          <a:stretch/>
        </p:blipFill>
        <p:spPr>
          <a:xfrm>
            <a:off x="3505320" y="1447920"/>
            <a:ext cx="44193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cus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anel of six to ten consumers who discuss their opinions about a topic under the guidance of a modera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ww.msresearchinc.com/images/Focus%20Group.jpg"/>
          <p:cNvPicPr/>
          <p:nvPr/>
        </p:nvPicPr>
        <p:blipFill>
          <a:blip r:embed="rId1"/>
          <a:stretch/>
        </p:blipFill>
        <p:spPr>
          <a:xfrm>
            <a:off x="2666880" y="342900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rc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process that involves producing and marketing a new produ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Life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roduction – main focus is promoting consumer awareness and getting consumers to try the produc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wth – more competitors enter the marketplace if they see a new product is successful (Powerade/Gatorade) Distribution is importa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turity – sales begin to slow dow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line – sales begin to drop. Technology advances can cause entire categories to entire decline st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0:25:34Z</dcterms:created>
  <dc:creator>Christina</dc:creator>
  <dc:description/>
  <dc:language>en-US</dc:language>
  <cp:lastModifiedBy>Christina</cp:lastModifiedBy>
  <dcterms:modified xsi:type="dcterms:W3CDTF">2012-10-12T01:00:37Z</dcterms:modified>
  <cp:revision>7</cp:revision>
  <dc:subject/>
  <dc:title>Product Design </dc:title>
</cp:coreProperties>
</file>